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CA7-0AB5-40B7-B4FB-B87CA594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55-3272-455B-A9A4-6052A25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1C5-7984-4293-860D-FD704C71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24B-3F10-48CE-9AA8-E05F3B1B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CD5-FAE7-4488-88B4-3F5FCBD0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B10-BDF2-4425-8A48-D50E4A1A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556-D771-4082-A59D-8DB305C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5CA-9AFA-4294-B2D3-9D60743A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DDA-D0C2-4AE0-9967-24908F3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DBD-B670-4DA8-9807-B7D7FDD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540-928A-47C4-AB9C-9AB4A27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3D3-C30C-44BC-9607-A32554C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7F0-E27E-423C-84D7-BB220D336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Оксидативна декарбоксилација пирув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у ћелији има кисеоника, у процесу који се назива оксидативна декарбоксилација пирувата, од сваког молекула пирувата добијамо п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ацетил-коензима 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угљен-диоксид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ош један молекул редукованог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цетил-коензим А се у митохондријама разграђује у процесу који се зове Кребсов цикл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ебсов циклус чини серија узастопних реакција код којих је производ последње реакције (оксалацетат) истовремено и супстрат за прву реакцију (оксалацетат и ацетил-коензим А дају цитра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 регулаторна ензима Кребсовог циклуса с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итрат-синт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оцитрат-дехидрогеназ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лфакетоглутарат-дехидроге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ликом разградње сваког молекула ацетил-коензима А се добија по 10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упно се приликом потпуне разградње једног молекула глукозе у присуству кисеоника добија нето 30 молекул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Т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2057400"/>
          <a:ext cx="8915400" cy="45720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та се добиј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ко је то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ко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ативна декарбоксилација пирувата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ебсов циклус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оновање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се ћелије „засите“ енергијом, тј. када се синтетише довољно </a:t>
            </a:r>
            <a:r>
              <a:rPr b="0" i="1" lang="sr-RS" sz="30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 у ћелијама, сав вишак молекула глукозе се депон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укоза се у ћелијама депонује прво у облику полисахарида гликогена, а касније, када се и депои гликогена напуне и у облику триацилглицерола (простих масти) за шта практично не постоји ограничење у количини која ће се депоновати у организ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лисахарид изграђен из молекула глук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цес синтезе гликогена се назива гликогенеза, а процес разградње гликогена се назива гликогено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ерве гликогена из јетре могу трајати до 24 часа након узимања хране, а у свакодневним околностима се троше значајно бр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егулација метаболизма гликог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улин делује на регулаторни ензим задужен за гликогенезу тако што га активира, односно гликоген-синтаза под дејством инсулина постаје активна и уграђује молекуле глукозе у 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укагон активира гликоген-фосфорилазу и тиме поспешује разградњу гликогена, односно гликогенол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гулација глик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тај начин глукагон може деловати на јетру да повећа гликемију, тако што ће се у ћелијама јетре гликоген разградити до молекула глукозе који могу напустити јетру, ући у крвоток и довести до скока концентрације глукозе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 термином метаболизам, подразумевају се све хемијске реакције у нашем организ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де је енергиј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ТП је „основна енергетска мо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гљени хид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гљени хидрати су молекули чија је основна улога у исхрани, производња метаболичке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ељени су на моносахариде (глукоза, фруктоза, галактоза), дисахариде (сахароза, лактоза) и полисахариде (скроб, гликоген, целуло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об и глук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а најзначајнија угљена хидрата су скроб, који је најзаступљенији угљени хидрат у нашој исхрани и глук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157px-Alpha-D-Glucopyranose"/>
          <p:cNvPicPr/>
          <p:nvPr/>
        </p:nvPicPr>
        <p:blipFill>
          <a:blip r:embed="rId1"/>
          <a:stretch/>
        </p:blipFill>
        <p:spPr>
          <a:xfrm>
            <a:off x="3733920" y="3714840"/>
            <a:ext cx="1571400" cy="1695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3640" y="54975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лекул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цес варења угљених хидрата започиње још у усној дупљ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желуцу, долази до даље разградње скроба под дејством хлороводоничне киселине желудачног с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већи део скроба разграђују ензими панкреаса, односно панкреасна ами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дисахариде и олигосахариде делују ензими који се зову дисахаридазе и олигосахаридазе и разграђују их до моносахар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лазак глукозе из црева у крв након оброка доводи до повећања концентрације глукозе у крви, а то је главни стимулус за лучење инсулина из панкре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с којим се један молекул глукозе разграђује до два молекула пирогрожђане киселине (пирувата), одвија се у цитоплазми ћелија и назива се глико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з од 10 ензимски катализованих хемијских реак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гулаторни ензими гликоли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ксокиназа (глукокиназа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сфофруктокиназа 1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руват 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ључни регулаторни ензим (eng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te-limi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гликолизе је фосфофруктокиназа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крају процеса гликолизе, од сваког молекула глукозе добијамо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пирувата (пирогрожђане киселине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</a:t>
            </a: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то добитак од једног молекула глукозе у анаеробним условима (када нема кисеоника) само 2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KC KG Lab</cp:lastModifiedBy>
  <dcterms:modified xsi:type="dcterms:W3CDTF">2020-10-01T07:59:44Z</dcterms:modified>
  <cp:revision>8</cp:revision>
  <dc:subject/>
  <dc:title>Slide 1</dc:title>
</cp:coreProperties>
</file>